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24.gif" ContentType="image/gif"/>
  <Override PartName="/ppt/media/image8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6.jpeg" ContentType="image/jpeg"/>
  <Override PartName="/ppt/media/chimes.wav" ContentType="audio/x-wav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6-08-29T15:24:08.876000000" idx="1">
    <p:pos x="5362" y="764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dyd"/>
          <p:cNvPicPr/>
          <p:nvPr/>
        </p:nvPicPr>
        <p:blipFill>
          <a:blip r:embed="rId2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B45B-6241-41B2-AA29-595D867CD16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内容占位符 3" descr=""/>
          <p:cNvPicPr/>
          <p:nvPr/>
        </p:nvPicPr>
        <p:blipFill>
          <a:blip r:embed="rId1"/>
          <a:stretch/>
        </p:blipFill>
        <p:spPr>
          <a:xfrm rot="16200000">
            <a:off x="2417760" y="-984240"/>
            <a:ext cx="4138560" cy="83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椭圆 12"/>
          <p:cNvSpPr/>
          <p:nvPr/>
        </p:nvSpPr>
        <p:spPr>
          <a:xfrm>
            <a:off x="522360" y="493560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527040" y="331776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"/>
          <p:cNvSpPr/>
          <p:nvPr/>
        </p:nvSpPr>
        <p:spPr>
          <a:xfrm>
            <a:off x="527040" y="159372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463640" y="1087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读儿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51760" y="1876320"/>
            <a:ext cx="45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10"/>
          <p:cNvSpPr/>
          <p:nvPr/>
        </p:nvSpPr>
        <p:spPr>
          <a:xfrm>
            <a:off x="755640" y="10126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755640" y="15872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3" descr="W9BROC)J8A62JLR7$DP9H}U"/>
          <p:cNvPicPr/>
          <p:nvPr/>
        </p:nvPicPr>
        <p:blipFill>
          <a:blip r:embed="rId2"/>
          <a:stretch/>
        </p:blipFill>
        <p:spPr>
          <a:xfrm>
            <a:off x="2066760" y="177840"/>
            <a:ext cx="57978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ba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白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p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皮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wě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尾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uǐ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嘴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à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在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2627280" y="2492280"/>
            <a:ext cx="4465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ɑi ei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708360" y="1555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初识新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6480" y="2022480"/>
            <a:ext cx="7737480" cy="4430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20364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快乐读拼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3240" y="0"/>
            <a:ext cx="9128160" cy="6824520"/>
          </a:xfrm>
          <a:prstGeom prst="rect">
            <a:avLst/>
          </a:prstGeom>
          <a:ln w="0">
            <a:noFill/>
          </a:ln>
        </p:spPr>
      </p:pic>
      <p:sp>
        <p:nvSpPr>
          <p:cNvPr id="49" name="直线连接符 21"/>
          <p:cNvSpPr/>
          <p:nvPr/>
        </p:nvSpPr>
        <p:spPr>
          <a:xfrm>
            <a:off x="2697120" y="225252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5" descr="CO23(RFMCVWHYCE1OY6K492"/>
          <p:cNvPicPr/>
          <p:nvPr/>
        </p:nvPicPr>
        <p:blipFill>
          <a:blip r:embed="rId2"/>
          <a:stretch/>
        </p:blipFill>
        <p:spPr>
          <a:xfrm>
            <a:off x="301680" y="0"/>
            <a:ext cx="8993160" cy="68230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5749920" y="1270080"/>
            <a:ext cx="2475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éi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围     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2476440" y="790560"/>
            <a:ext cx="226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á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óu f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1741320" y="184644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ā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7"/>
          <p:cNvSpPr/>
          <p:nvPr/>
        </p:nvSpPr>
        <p:spPr>
          <a:xfrm>
            <a:off x="5289480" y="5478480"/>
            <a:ext cx="24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ē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hū b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609480" y="28875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é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4836960" y="3817800"/>
            <a:ext cx="23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ǐ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240" y="2627280"/>
            <a:ext cx="8682120" cy="42321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258920" y="10494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b----ei----b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0310020073"/>
          <p:cNvPicPr/>
          <p:nvPr/>
        </p:nvPicPr>
        <p:blipFill>
          <a:blip r:embed="rId2"/>
          <a:stretch/>
        </p:blipFill>
        <p:spPr>
          <a:xfrm>
            <a:off x="3354480" y="4530600"/>
            <a:ext cx="26510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2"/>
          <p:cNvPicPr/>
          <p:nvPr/>
        </p:nvPicPr>
        <p:blipFill>
          <a:blip r:embed="rId3"/>
          <a:stretch/>
        </p:blipFill>
        <p:spPr>
          <a:xfrm>
            <a:off x="6229440" y="2133720"/>
            <a:ext cx="2246400" cy="143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4"/>
          <p:cNvPicPr/>
          <p:nvPr/>
        </p:nvPicPr>
        <p:blipFill>
          <a:blip r:embed="rId4"/>
          <a:stretch/>
        </p:blipFill>
        <p:spPr>
          <a:xfrm>
            <a:off x="6445080" y="4403880"/>
            <a:ext cx="2108520" cy="20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5"/>
          <p:cNvPicPr/>
          <p:nvPr/>
        </p:nvPicPr>
        <p:blipFill>
          <a:blip r:embed="rId5"/>
          <a:stretch/>
        </p:blipFill>
        <p:spPr>
          <a:xfrm>
            <a:off x="898560" y="2133720"/>
            <a:ext cx="2279520" cy="1520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0310020007"/>
          <p:cNvPicPr/>
          <p:nvPr/>
        </p:nvPicPr>
        <p:blipFill>
          <a:blip r:embed="rId6"/>
          <a:stretch/>
        </p:blipFill>
        <p:spPr>
          <a:xfrm>
            <a:off x="3548160" y="2155680"/>
            <a:ext cx="2455920" cy="152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0310020061"/>
          <p:cNvPicPr/>
          <p:nvPr/>
        </p:nvPicPr>
        <p:blipFill>
          <a:blip r:embed="rId7"/>
          <a:stretch/>
        </p:blipFill>
        <p:spPr>
          <a:xfrm>
            <a:off x="485640" y="4510080"/>
            <a:ext cx="2521080" cy="17985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395280" y="981000"/>
            <a:ext cx="518472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有 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在，把帽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不在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 e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是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 u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一起来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谁在后边给谁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4572000" y="98100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标调歌</a:t>
            </a:r>
            <a:endParaRPr b="0" lang="en-US" sz="1800" spc="-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2"/>
          <a:stretch/>
        </p:blipFill>
        <p:spPr>
          <a:xfrm>
            <a:off x="4862520" y="3446640"/>
            <a:ext cx="3666960" cy="240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828720" y="765000"/>
            <a:ext cx="14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419640" y="765000"/>
            <a:ext cx="1454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395280" y="-25560"/>
            <a:ext cx="7920000" cy="5038920"/>
            <a:chOff x="395280" y="-25560"/>
            <a:chExt cx="7920000" cy="5038920"/>
          </a:xfrm>
        </p:grpSpPr>
        <p:grpSp>
          <p:nvGrpSpPr>
            <p:cNvPr id="178" name="Group 6"/>
            <p:cNvGrpSpPr/>
            <p:nvPr/>
          </p:nvGrpSpPr>
          <p:grpSpPr>
            <a:xfrm>
              <a:off x="395280" y="1774080"/>
              <a:ext cx="7920000" cy="3239280"/>
              <a:chOff x="395280" y="1774080"/>
              <a:chExt cx="7920000" cy="32392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95280" y="3933720"/>
                <a:ext cx="7848720" cy="360"/>
                <a:chOff x="395280" y="3933720"/>
                <a:chExt cx="7848720" cy="360"/>
              </a:xfrm>
            </p:grpSpPr>
            <p:sp>
              <p:nvSpPr>
                <p:cNvPr id="180" name="Line 7"/>
                <p:cNvSpPr/>
                <p:nvPr/>
              </p:nvSpPr>
              <p:spPr>
                <a:xfrm>
                  <a:off x="395280" y="3933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395280" y="3933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6560" y="2781720"/>
                <a:ext cx="7848720" cy="360"/>
                <a:chOff x="466560" y="2781720"/>
                <a:chExt cx="7848720" cy="360"/>
              </a:xfrm>
            </p:grpSpPr>
            <p:sp>
              <p:nvSpPr>
                <p:cNvPr id="183" name="Line 8"/>
                <p:cNvSpPr/>
                <p:nvPr/>
              </p:nvSpPr>
              <p:spPr>
                <a:xfrm>
                  <a:off x="466560" y="2781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466560" y="2781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95280" y="1774080"/>
                <a:ext cx="7848720" cy="360"/>
                <a:chOff x="395280" y="1774080"/>
                <a:chExt cx="7848720" cy="360"/>
              </a:xfrm>
            </p:grpSpPr>
            <p:sp>
              <p:nvSpPr>
                <p:cNvPr id="186" name="Line 9"/>
                <p:cNvSpPr/>
                <p:nvPr/>
              </p:nvSpPr>
              <p:spPr>
                <a:xfrm>
                  <a:off x="395280" y="177408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"/>
                <p:cNvSpPr txBox="1"/>
                <p:nvPr/>
              </p:nvSpPr>
              <p:spPr>
                <a:xfrm>
                  <a:off x="395280" y="177408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66560" y="5013000"/>
                <a:ext cx="7777440" cy="360"/>
                <a:chOff x="466560" y="5013000"/>
                <a:chExt cx="7777440" cy="36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466560" y="5013000"/>
                  <a:ext cx="777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"/>
                <p:cNvSpPr txBox="1"/>
                <p:nvPr/>
              </p:nvSpPr>
              <p:spPr>
                <a:xfrm>
                  <a:off x="466560" y="5013000"/>
                  <a:ext cx="77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1" name="Text Box 11"/>
            <p:cNvSpPr/>
            <p:nvPr/>
          </p:nvSpPr>
          <p:spPr>
            <a:xfrm>
              <a:off x="2124000" y="-25560"/>
              <a:ext cx="1152720" cy="25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>
              <a:off x="8449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ɑ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34945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6012000" y="1726200"/>
              <a:ext cx="183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0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1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14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215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6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218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9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0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221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2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224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5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2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CD51-F28F-45A5-8E6B-F4B8491B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470160" y="3960"/>
            <a:ext cx="8457840" cy="6801120"/>
            <a:chOff x="470160" y="3960"/>
            <a:chExt cx="8457840" cy="6801120"/>
          </a:xfrm>
        </p:grpSpPr>
        <p:sp>
          <p:nvSpPr>
            <p:cNvPr id="230" name="AutoShape 4"/>
            <p:cNvSpPr/>
            <p:nvPr/>
          </p:nvSpPr>
          <p:spPr>
            <a:xfrm rot="3261600">
              <a:off x="6044400" y="2530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 rot="4644000">
              <a:off x="6607800" y="146304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6"/>
            <p:cNvSpPr/>
            <p:nvPr/>
          </p:nvSpPr>
          <p:spPr>
            <a:xfrm rot="7293600">
              <a:off x="6060960" y="4135320"/>
              <a:ext cx="1931760" cy="242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 rot="5988000">
              <a:off x="6607080" y="2824200"/>
              <a:ext cx="186156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 rot="14237400">
              <a:off x="1357200" y="414900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AutoShape 9"/>
            <p:cNvSpPr/>
            <p:nvPr/>
          </p:nvSpPr>
          <p:spPr>
            <a:xfrm rot="15619800">
              <a:off x="893880" y="294192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AutoShape 10"/>
            <p:cNvSpPr/>
            <p:nvPr/>
          </p:nvSpPr>
          <p:spPr>
            <a:xfrm rot="16963200">
              <a:off x="934200" y="1557000"/>
              <a:ext cx="186156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 rot="18269400">
              <a:off x="147528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12"/>
            <p:cNvSpPr/>
            <p:nvPr/>
          </p:nvSpPr>
          <p:spPr>
            <a:xfrm>
              <a:off x="3282120" y="2058840"/>
              <a:ext cx="281844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WordArt 13"/>
            <p:cNvSpPr txBox="1"/>
            <p:nvPr/>
          </p:nvSpPr>
          <p:spPr>
            <a:xfrm>
              <a:off x="3739320" y="2516040"/>
              <a:ext cx="178056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4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1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2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44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245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6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47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248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9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251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2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254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5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5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1E93-085F-4D90-B137-65DE9B09F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6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70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1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74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275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6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278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9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0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281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2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3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284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5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8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C70F-5796-41C6-BE51-241B97DFD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4" descr=""/>
          <p:cNvPicPr/>
          <p:nvPr/>
        </p:nvPicPr>
        <p:blipFill>
          <a:blip r:embed="rId2"/>
          <a:stretch/>
        </p:blipFill>
        <p:spPr>
          <a:xfrm>
            <a:off x="4367160" y="2478240"/>
            <a:ext cx="2217960" cy="29988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3" descr=""/>
          <p:cNvPicPr/>
          <p:nvPr/>
        </p:nvPicPr>
        <p:blipFill>
          <a:blip r:embed="rId3"/>
          <a:stretch/>
        </p:blipFill>
        <p:spPr>
          <a:xfrm>
            <a:off x="2149560" y="247968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" descr=""/>
          <p:cNvPicPr/>
          <p:nvPr/>
        </p:nvPicPr>
        <p:blipFill>
          <a:blip r:embed="rId4"/>
          <a:stretch/>
        </p:blipFill>
        <p:spPr>
          <a:xfrm>
            <a:off x="157320" y="247824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A1_151"/>
          <p:cNvPicPr/>
          <p:nvPr/>
        </p:nvPicPr>
        <p:blipFill>
          <a:blip r:embed="rId5"/>
          <a:stretch/>
        </p:blipFill>
        <p:spPr>
          <a:xfrm>
            <a:off x="7093080" y="3789360"/>
            <a:ext cx="2228760" cy="3276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558720" y="3144960"/>
            <a:ext cx="12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妹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3241800" y="1351080"/>
            <a:ext cx="21859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我会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37400" y="3327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5249880" y="314964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6"/>
          <a:stretch/>
        </p:blipFill>
        <p:spPr>
          <a:xfrm>
            <a:off x="6585120" y="2479680"/>
            <a:ext cx="2217600" cy="2998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9"/>
          <p:cNvSpPr/>
          <p:nvPr/>
        </p:nvSpPr>
        <p:spPr>
          <a:xfrm>
            <a:off x="2935440" y="332748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7429680" y="31449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19040" y="5616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复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730440" y="1954080"/>
            <a:ext cx="76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66"/>
                </a:solidFill>
                <a:latin typeface="华文隶书"/>
                <a:ea typeface="华文隶书"/>
              </a:rPr>
              <a:t>ai  ei  u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5200" y="514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嘴巴张大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音，迅速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滑过去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响而长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短而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角三角形 3"/>
          <p:cNvSpPr/>
          <p:nvPr/>
        </p:nvSpPr>
        <p:spPr>
          <a:xfrm>
            <a:off x="669960" y="2257560"/>
            <a:ext cx="7486560" cy="275904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4"/>
          <p:cNvSpPr/>
          <p:nvPr/>
        </p:nvSpPr>
        <p:spPr>
          <a:xfrm>
            <a:off x="565200" y="465120"/>
            <a:ext cx="1905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隶书"/>
                <a:ea typeface="华文隶书"/>
              </a:rPr>
              <a:t>a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7472520" y="3203640"/>
            <a:ext cx="1904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4033800" y="1228680"/>
            <a:ext cx="219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华文细黑"/>
                <a:ea typeface="华文细黑"/>
              </a:rPr>
              <a:t>a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 L 0.672639 0.386389 E">
                                      <p:cBhvr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085760" y="2028960"/>
            <a:ext cx="7489800" cy="4360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749760" y="1197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练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10508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2995560" y="51339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5076720" y="513396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69962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爱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77" name="WordArt 2"/>
          <p:cNvSpPr txBox="1"/>
          <p:nvPr/>
        </p:nvSpPr>
        <p:spPr>
          <a:xfrm>
            <a:off x="6012000" y="177336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pic>
        <p:nvPicPr>
          <p:cNvPr id="78" name="Picture 3" descr="a"/>
          <p:cNvPicPr/>
          <p:nvPr/>
        </p:nvPicPr>
        <p:blipFill>
          <a:blip r:embed="rId2"/>
          <a:stretch/>
        </p:blipFill>
        <p:spPr>
          <a:xfrm>
            <a:off x="563400" y="1486080"/>
            <a:ext cx="4427640" cy="4654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4"/>
          <p:cNvSpPr/>
          <p:nvPr/>
        </p:nvSpPr>
        <p:spPr>
          <a:xfrm>
            <a:off x="468360" y="6015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1188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6836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四声读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50800" y="1616040"/>
            <a:ext cx="8229600" cy="3382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1510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61212000913935_S"/>
          <p:cNvPicPr/>
          <p:nvPr/>
        </p:nvPicPr>
        <p:blipFill>
          <a:blip r:embed="rId1"/>
          <a:stretch/>
        </p:blipFill>
        <p:spPr>
          <a:xfrm>
            <a:off x="-349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2"/>
          <p:cNvSpPr txBox="1"/>
          <p:nvPr/>
        </p:nvSpPr>
        <p:spPr>
          <a:xfrm>
            <a:off x="5270400" y="236052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573360" y="4660920"/>
            <a:ext cx="4648320" cy="895320"/>
            <a:chOff x="3573360" y="4660920"/>
            <a:chExt cx="4648320" cy="895320"/>
          </a:xfrm>
        </p:grpSpPr>
        <p:sp>
          <p:nvSpPr>
            <p:cNvPr id="93" name="WordArt 4"/>
            <p:cNvSpPr txBox="1"/>
            <p:nvPr/>
          </p:nvSpPr>
          <p:spPr>
            <a:xfrm>
              <a:off x="35733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4" name="WordArt 5"/>
            <p:cNvSpPr txBox="1"/>
            <p:nvPr/>
          </p:nvSpPr>
          <p:spPr>
            <a:xfrm>
              <a:off x="486864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5" name="WordArt 6"/>
            <p:cNvSpPr txBox="1"/>
            <p:nvPr/>
          </p:nvSpPr>
          <p:spPr>
            <a:xfrm>
              <a:off x="6164280" y="466092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6" name="WordArt 7"/>
            <p:cNvSpPr txBox="1"/>
            <p:nvPr/>
          </p:nvSpPr>
          <p:spPr>
            <a:xfrm>
              <a:off x="74595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10"/>
          <p:cNvSpPr/>
          <p:nvPr/>
        </p:nvSpPr>
        <p:spPr>
          <a:xfrm>
            <a:off x="468360" y="3571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33440" y="10476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" descr="I``KBCPN$D[P_3IWMG80$0M"/>
          <p:cNvPicPr/>
          <p:nvPr/>
        </p:nvPicPr>
        <p:blipFill>
          <a:blip r:embed="rId2"/>
          <a:stretch/>
        </p:blipFill>
        <p:spPr>
          <a:xfrm>
            <a:off x="-212760" y="1292400"/>
            <a:ext cx="299556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303840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危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454176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围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5983200" y="580068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尾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7264440" y="5800680"/>
            <a:ext cx="2082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喂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005360" y="757080"/>
            <a:ext cx="4313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u    +   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1" descr="I``KBCPN$D[P_3IWMG80$0M"/>
          <p:cNvPicPr/>
          <p:nvPr/>
        </p:nvPicPr>
        <p:blipFill>
          <a:blip r:embed="rId1"/>
          <a:stretch/>
        </p:blipFill>
        <p:spPr>
          <a:xfrm>
            <a:off x="100080" y="728640"/>
            <a:ext cx="4338720" cy="40798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3"/>
          <p:cNvSpPr/>
          <p:nvPr/>
        </p:nvSpPr>
        <p:spPr>
          <a:xfrm>
            <a:off x="4578480" y="1584360"/>
            <a:ext cx="380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奶奶在讲故事，小朋友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应该乖乖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听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4:00Z</dcterms:created>
  <dc:creator/>
  <dc:description/>
  <dc:language>en-US</dc:language>
  <cp:lastModifiedBy>ASUS</cp:lastModifiedBy>
  <dcterms:modified xsi:type="dcterms:W3CDTF">2017-10-30T15:10:40Z</dcterms:modified>
  <cp:revision>6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